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9.wmf" ContentType="image/x-wm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5166-3730-41A6-83F8-86127895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2A07B-D864-47AB-B87B-9B5ACC86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360E-A1F7-4929-80D9-0EC8935A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5043-7413-49F1-8A92-54139C61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9F6B-2A5E-42B0-9037-C4DF13FC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1090-2F18-43BE-B621-E4A9138C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DA0A-4546-405D-BE36-0E45E855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0001-E012-4BFD-B6EA-29C64219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5A62-14BB-4E30-BFB1-E516796A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9278-F74A-42E4-A9D0-BEEFC85C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6C14-54DC-4ECD-B048-DF5C1162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CF3CF-5E82-4C2D-84E6-4A32A1AF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7DB6-5906-483C-AC8D-1205767B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D113-0088-49DD-A19D-6AA0F02C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4F8C-2A1C-49B1-A40A-49B97AAA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C574-7F6A-4AA5-8976-D42E0A69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34FC-8B5F-4B44-BD91-DE260235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040D-21CD-4C3E-801F-A86005E7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DF98-1AB7-4843-A651-F447DEC6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003AB-B577-468F-A024-C3317CF2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9EA3D-6200-4456-8159-EDAE46F4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0C21-4EFD-45C1-8F14-D5B333F1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96955-D22F-47A2-BD2E-6EEBD20A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ACE3A-B00F-4D4F-9AAA-B6DD38B5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F595-4289-4A0C-96AD-5D229D6D857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E371-BD4C-4C9A-B861-9B22E4E6C111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208080" y="2405160"/>
            <a:ext cx="992196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0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اسماء الموصولة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3280" y="1341360"/>
            <a:ext cx="6120000" cy="16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700" spc="-1" strike="noStrike">
                <a:solidFill>
                  <a:srgbClr val="cc3399"/>
                </a:solidFill>
                <a:latin typeface="Tahoma"/>
                <a:cs typeface="Traditional Arabic"/>
              </a:rPr>
              <a:t>انتهى الدرس</a:t>
            </a:r>
            <a:br>
              <a:rPr sz="9700"/>
            </a:br>
            <a:endParaRPr b="0" lang="en-US" sz="97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77" name="Picture 6" descr="147859654"/>
          <p:cNvPicPr/>
          <p:nvPr/>
        </p:nvPicPr>
        <p:blipFill>
          <a:blip r:embed="rId1"/>
          <a:stretch/>
        </p:blipFill>
        <p:spPr>
          <a:xfrm>
            <a:off x="2771640" y="3213000"/>
            <a:ext cx="3996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أسماء الموصولة</a:t>
            </a:r>
            <a:br>
              <a:rPr sz="6600"/>
            </a:br>
            <a:r>
              <a:rPr b="1" lang="ar-SA" sz="6600" spc="-1" strike="noStrike">
                <a:solidFill>
                  <a:srgbClr val="ff3399"/>
                </a:solidFill>
                <a:latin typeface="Tahoma"/>
                <a:cs typeface="Traditional Arabic"/>
              </a:rPr>
              <a:t>مـا هـي ؟ </a:t>
            </a:r>
            <a:endParaRPr b="0" lang="en-US" sz="6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8" name="Picture 8" descr="418arabsvip_com"/>
          <p:cNvPicPr/>
          <p:nvPr/>
        </p:nvPicPr>
        <p:blipFill>
          <a:blip r:embed="rId2"/>
          <a:stretch/>
        </p:blipFill>
        <p:spPr>
          <a:xfrm>
            <a:off x="7075440" y="4975200"/>
            <a:ext cx="2068560" cy="188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imagesCAVEYGXS"/>
          <p:cNvPicPr/>
          <p:nvPr/>
        </p:nvPicPr>
        <p:blipFill>
          <a:blip r:embed="rId3"/>
          <a:stretch/>
        </p:blipFill>
        <p:spPr>
          <a:xfrm>
            <a:off x="1403280" y="3429000"/>
            <a:ext cx="21002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48036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3399"/>
                </a:solidFill>
                <a:latin typeface="Tahoma"/>
                <a:cs typeface="Traditional Arabic"/>
              </a:rPr>
              <a:t>مفهوم الاسم الموصول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أحب أمي التي سهرت من أجلي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ahoma"/>
              </a:rPr>
              <a:t>هل للجملة السابقة معنى تام ؟       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26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هل بقيت الجملة تامة المعنى 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26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ما الكلمة التي جعلت الجملة غير تامة المعنى 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كلمة ( التي) أهي اسم ،أم فعل ،أم حرف؟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26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هل الاسم ( التي ) له معنى ودلالة واضحة بمفرده 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624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ahoma"/>
              </a:rPr>
              <a:t>هل يحتاج الاسم ( التي ) إلى وصله بجملة بعده توضح دلالته وتتم معناه ؟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 نعم ، فمعناه مرتبط وموصول بالجملة التي بعده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2771640" y="1844640"/>
            <a:ext cx="4319640" cy="576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54000" tIns="0" bIns="1800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ahoma"/>
              </a:rPr>
              <a:t>أُحِبُّ أم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788000" y="2349360"/>
            <a:ext cx="5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نعم</a:t>
            </a:r>
            <a:r>
              <a:rPr b="0" lang="ar-SA" sz="1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63528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ahoma"/>
              </a:rPr>
              <a:t>ل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 rot="10800000">
            <a:off x="6012000" y="2923920"/>
            <a:ext cx="2449440" cy="430200"/>
          </a:xfrm>
          <a:prstGeom prst="flowChartOnlineStorag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أحب أمي الت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908000" y="371628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ahoma"/>
              </a:rPr>
              <a:t>الت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195640" y="4292640"/>
            <a:ext cx="86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Tahoma"/>
              </a:rPr>
              <a:t>اس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332000" y="479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Tahoma"/>
              </a:rPr>
              <a:t>ل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14" descr="avatar88657_10"/>
          <p:cNvPicPr/>
          <p:nvPr/>
        </p:nvPicPr>
        <p:blipFill>
          <a:blip r:embed="rId3"/>
          <a:stretch/>
        </p:blipFill>
        <p:spPr>
          <a:xfrm>
            <a:off x="826920" y="54936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662472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r" rtl="1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ahoma"/>
              </a:rPr>
              <a:t> ماذا نسمي الاسم الذي لا يتم معناه إلا بوصله بجملة بعده</a:t>
            </a:r>
            <a:r>
              <a:rPr b="0" lang="ar-SA" sz="3800" spc="-1" strike="noStrike">
                <a:solidFill>
                  <a:srgbClr val="000000"/>
                </a:solidFill>
                <a:latin typeface="Tahoma"/>
              </a:rPr>
              <a:t> ؟</a:t>
            </a:r>
            <a:br>
              <a:rPr sz="3800"/>
            </a:br>
            <a:r>
              <a:rPr b="0" lang="ar-SA" sz="3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187280" y="1266840"/>
            <a:ext cx="4176720" cy="649440"/>
          </a:xfrm>
          <a:prstGeom prst="flowChartOnlineStorag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99"/>
                </a:solidFill>
                <a:latin typeface="Tahoma"/>
              </a:rPr>
              <a:t>سهرت من أجل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"/>
          <p:cNvSpPr/>
          <p:nvPr/>
        </p:nvSpPr>
        <p:spPr>
          <a:xfrm rot="10800000">
            <a:off x="5003640" y="1196640"/>
            <a:ext cx="3564000" cy="7192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أحب أمي الت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0" y="40464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الاسم الموصو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132000" y="242100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- ما الجملة التي أتمت معنى الاسم الموصول ( التي ) 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971640" y="2421000"/>
            <a:ext cx="215892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99"/>
                </a:solidFill>
                <a:latin typeface="Tahoma"/>
              </a:rPr>
              <a:t>سهرت من اجل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1979640" y="31161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- ماذا نسمي الجملة التي تأتي بعد الاسم الموصول وتتم معناه 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2556000" y="3789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جملة</a:t>
            </a:r>
            <a:r>
              <a:rPr b="1" lang="ar-SA" sz="2400" spc="-1" strike="noStrike">
                <a:solidFill>
                  <a:srgbClr val="0033cc"/>
                </a:solidFill>
                <a:latin typeface="Tahoma"/>
              </a:rPr>
              <a:t> صلة الموصول</a:t>
            </a: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5796000" y="4869000"/>
            <a:ext cx="1512720" cy="825480"/>
          </a:xfrm>
          <a:prstGeom prst="rect">
            <a:avLst/>
          </a:prstGeom>
          <a:solidFill>
            <a:srgbClr val="ffa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c0c0"/>
                </a:solidFill>
                <a:latin typeface="Tahoma"/>
              </a:rPr>
              <a:t>أحب أم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4861080" y="4869000"/>
            <a:ext cx="934920" cy="45972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ت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2987640" y="4869000"/>
            <a:ext cx="187164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سهرت من أجل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56000" y="277920"/>
            <a:ext cx="613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3399"/>
                </a:solidFill>
                <a:latin typeface="Tahoma"/>
                <a:cs typeface="Traditional Arabic"/>
              </a:rPr>
              <a:t>وبعد هذا الشرح الوافي ماذا تستنتج ؟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2" name="Cloud"/>
          <p:cNvSpPr/>
          <p:nvPr/>
        </p:nvSpPr>
        <p:spPr>
          <a:xfrm>
            <a:off x="611280" y="1197000"/>
            <a:ext cx="8064360" cy="3909960"/>
          </a:xfrm>
          <a:prstGeom prst="pie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99"/>
                </a:solidFill>
                <a:latin typeface="Tahoma"/>
                <a:cs typeface="Traditional Arabic"/>
              </a:rPr>
              <a:t>أستنتج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اسم الموصول 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هو اسم لا يتم معناه إلا بجملة تأتي بعده تسمى صلة الموصول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5" descr="al-anssari-d6a4dd62c1"/>
          <p:cNvPicPr/>
          <p:nvPr/>
        </p:nvPicPr>
        <p:blipFill>
          <a:blip r:embed="rId1"/>
          <a:stretch/>
        </p:blipFill>
        <p:spPr>
          <a:xfrm>
            <a:off x="7524720" y="4149720"/>
            <a:ext cx="1333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343640" cy="126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200" spc="-1" strike="noStrike">
                <a:solidFill>
                  <a:srgbClr val="ff3399"/>
                </a:solidFill>
                <a:latin typeface="Tahoma"/>
                <a:cs typeface="Traditional Arabic"/>
              </a:rPr>
              <a:t>أمثلة توضيحية </a:t>
            </a:r>
            <a:endParaRPr b="0" lang="en-US" sz="6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 algn="r" rtl="1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 التلاميذ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ذين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ثابروا على الدراسة 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05560" indent="0" algn="r" rtl="1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لميذات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لاتي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ثابرن على الدراسة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05560" indent="0" algn="r" rtl="1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جارب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تي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أجريت في المختبر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56000" y="1628640"/>
            <a:ext cx="417672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r" rtl="1">
              <a:lnSpc>
                <a:spcPct val="2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 التلميذ </a:t>
            </a:r>
            <a:r>
              <a:rPr b="1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ذي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 على الدراس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5480" indent="0" algn="r" rtl="1">
              <a:lnSpc>
                <a:spcPct val="2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لميذة </a:t>
            </a:r>
            <a:r>
              <a:rPr b="1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تي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ت على الدراس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5480" indent="0" algn="r" rtl="1">
              <a:lnSpc>
                <a:spcPct val="2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 التلميذان </a:t>
            </a:r>
            <a:r>
              <a:rPr b="1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لذان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ا على الدراس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5480" indent="0" algn="r" rtl="1">
              <a:lnSpc>
                <a:spcPct val="2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لميذتان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لتان 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تا على الدراسة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 flipV="1">
            <a:off x="4500720" y="1557360"/>
            <a:ext cx="0" cy="475128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3040" y="404280"/>
            <a:ext cx="6870960" cy="119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أسماء الموصولة هي :</a:t>
            </a:r>
            <a:endParaRPr b="0" lang="en-US" sz="5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ذي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ت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لذا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لتا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ذي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لاتي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4"/>
          <p:cNvSpPr/>
          <p:nvPr/>
        </p:nvSpPr>
        <p:spPr>
          <a:xfrm flipH="1">
            <a:off x="5076720" y="1989000"/>
            <a:ext cx="273528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059280" y="1700280"/>
            <a:ext cx="19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فرد المذك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H="1">
            <a:off x="5076360" y="2637000"/>
            <a:ext cx="280836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 flipH="1">
            <a:off x="5219640" y="3213000"/>
            <a:ext cx="259416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5219640" y="3860640"/>
            <a:ext cx="266544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5219640" y="4581360"/>
            <a:ext cx="266544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 flipH="1">
            <a:off x="5219640" y="5229360"/>
            <a:ext cx="259416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2987640" y="4349880"/>
            <a:ext cx="201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جماعة الذكو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3564000" y="363060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ثنى المؤن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492360" y="494172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جماعة الإنا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492360" y="298116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ثنى المذك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763640" y="2349360"/>
            <a:ext cx="32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فردة المؤنثة ولجمع غير العاق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00"/>
                            </p:stCondLst>
                            <p:childTnLst>
                              <p:par>
                                <p:cTn id="3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30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"/>
                            </p:stCondLst>
                            <p:childTnLst>
                              <p:par>
                                <p:cTn id="3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300"/>
                            </p:stCondLst>
                            <p:childTnLst>
                              <p:par>
                                <p:cTn id="3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4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400"/>
                            </p:stCondLst>
                            <p:childTnLst>
                              <p:par>
                                <p:cTn id="4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قاعدة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اسم الموصول هو : اسم لايتم معناه إلا بجملة تأتي بعده ، وتسمى صلة الموصول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أسماء الموصولة هي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ذي  للمفرد المذك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تي  للمفرد المؤنث ولجمع غير العاق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لذان  للمثنى المذك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4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لتان  للمثنى المذك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5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ذين  لجماعة الذكو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6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لاتي  لجماعة الإناث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201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7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تقويم</a:t>
            </a:r>
            <a:endParaRPr b="0" lang="en-US" sz="57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أستخرجُ الاسماء الموصولة فيما يأتي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Tahoma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800000"/>
                </a:solidFill>
                <a:latin typeface="Tahoma"/>
                <a:ea typeface="Traditional Arabic"/>
              </a:rPr>
              <a:t>- اللهم أصلح لي ديني الذي هو عصمت أمري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Tahoma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000099"/>
                </a:solidFill>
                <a:latin typeface="Tahoma"/>
                <a:ea typeface="Traditional Arabic"/>
              </a:rPr>
              <a:t>- كبرت الشجرتان اللتان زرعتهما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6600"/>
                </a:solidFill>
                <a:latin typeface="Tahoma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cc6600"/>
                </a:solidFill>
                <a:latin typeface="Tahoma"/>
                <a:ea typeface="Traditional Arabic"/>
              </a:rPr>
              <a:t>- فاحت رائحة الأزهار التي بالحديق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Tahoma"/>
                <a:ea typeface="Traditional Arabic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Tahoma"/>
                <a:ea typeface="Traditional Arabic"/>
              </a:rPr>
              <a:t>- هؤلاء الفتيات اللاتي شاركن في المسابق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Tahoma"/>
                <a:ea typeface="Traditional Arabic"/>
              </a:rPr>
              <a:t>5</a:t>
            </a:r>
            <a:r>
              <a:rPr b="0" lang="ar-SA" sz="3200" spc="-1" strike="noStrike">
                <a:solidFill>
                  <a:srgbClr val="666699"/>
                </a:solidFill>
                <a:latin typeface="Tahoma"/>
                <a:ea typeface="Traditional Arabic"/>
              </a:rPr>
              <a:t>- هؤلاء الطلاب الذين شاركوا في المسابق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تبقى اسم موصول لم نذكره في هذه الأمثلة من يذكره لنا 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320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48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76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240"/>
                            </p:stCondLst>
                            <p:childTnLst>
                              <p:par>
                                <p:cTn id="4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37:23Z</dcterms:created>
  <dc:creator>ריהאם</dc:creator>
  <dc:description/>
  <dc:language>en-US</dc:language>
  <cp:lastModifiedBy>User</cp:lastModifiedBy>
  <dcterms:modified xsi:type="dcterms:W3CDTF">2016-10-31T16:31:26Z</dcterms:modified>
  <cp:revision>39</cp:revision>
  <dc:subject>الإسم الموصول</dc:subject>
  <dc:title>قواعد اللغة العربية-الصف الثالث</dc:title>
</cp:coreProperties>
</file>